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4776-6BD7-4872-A14B-8039C1B2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5D2C-013B-418A-BA9A-EBFB0427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641B-26CD-4468-8BC0-55D7F675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253C-CDF0-43F9-949C-99B3AB25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2FB5-1B30-469A-A363-7B8C58E9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548A-A0D9-4235-A8BA-FDDD743C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D89F-693A-44AC-A5A0-DA669DD6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9CA8-95CA-4F62-9284-372F9336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7509-D298-464F-B5B1-92574B9B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273F-38BD-4400-864D-93BB2AE4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8333-F410-483B-A562-ED70DB67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6552-A26B-47FE-BC5A-898CDA72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3EBD-3482-403C-92C1-409B1DB86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ASH F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ctional literature of extreme bre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terms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dden f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f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-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rt sh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card f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s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hort short 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FlashFictionCritique" descr=""/>
          <p:cNvPicPr/>
          <p:nvPr/>
        </p:nvPicPr>
        <p:blipFill>
          <a:blip r:embed="rId1"/>
          <a:stretch/>
        </p:blipFill>
        <p:spPr>
          <a:xfrm>
            <a:off x="3522600" y="2666880"/>
            <a:ext cx="562140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uré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—author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ever Drank the Kool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ur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American novelist, writer of Flash Fiction, music journalist, culture critic and television personality based in NYC. He is the host of Fuse TV’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phop Sh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The Rec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He is a contributor to MSNBC. He also serves on the Rock N Roll Hall of Fame Nominating Committe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toure%202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FRONT PAGE NEWS!!!</a:t>
            </a: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t with a partner and retell 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Trainspotting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as a front page newspaper story. How do news writers report stories? Use the examples given &amp; the workshe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NYTimes.com_NYTimesFrontPage" descr=""/>
          <p:cNvPicPr/>
          <p:nvPr/>
        </p:nvPicPr>
        <p:blipFill>
          <a:blip r:embed="rId1"/>
          <a:stretch/>
        </p:blipFill>
        <p:spPr>
          <a:xfrm>
            <a:off x="1905120" y="0"/>
            <a:ext cx="541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7:46:21Z</dcterms:created>
  <dc:creator>ladychamperz</dc:creator>
  <dc:description/>
  <dc:language>en-US</dc:language>
  <cp:lastModifiedBy>ladychamperz</cp:lastModifiedBy>
  <dcterms:modified xsi:type="dcterms:W3CDTF">2011-04-24T15:15:49Z</dcterms:modified>
  <cp:revision>10</cp:revision>
  <dc:subject/>
  <dc:title>FLASH FICTION</dc:title>
</cp:coreProperties>
</file>